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EB8-2447-41EA-9F4B-1EE13561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304F-4576-4A2D-B36B-EABAE892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BB2-E7CA-4867-B5AB-EF119311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658D-8830-4323-A3EA-73E4D639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DB5-CCF2-4793-9483-C0315704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3B7B-9E08-4957-9183-905A94B0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60A-A180-45F6-AFA1-AF9AE356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EA9-D052-4020-B547-A19B85D3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C6A-3A88-4BAC-A209-EE23E4B5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A39-228B-41B1-BEC5-B6F4D349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10D-46E9-4771-A9E2-1B09ABC2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6BA-9710-4351-B39F-CB6BE9B4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A84D-5B4D-40B8-AEAA-1DE2EAAF5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ston.com/bigpicture/2009/03/mexicos_drug_war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ctures from Washington Post webs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5:30:12Z</dcterms:created>
  <dc:creator>ws12051</dc:creator>
  <dc:description/>
  <dc:language>en-US</dc:language>
  <cp:lastModifiedBy>ws12051</cp:lastModifiedBy>
  <dcterms:modified xsi:type="dcterms:W3CDTF">2010-05-20T15:40:51Z</dcterms:modified>
  <cp:revision>2</cp:revision>
  <dc:subject/>
  <dc:title>The Big Picture</dc:title>
</cp:coreProperties>
</file>